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A42A-D561-4C84-A121-016C9961E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ically, whilst phylogenetics is riddled with controversies, phylo schema designs are relatively uncontrovers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F54-157F-440B-9148-1D637953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AF9-8287-4FA7-8B45-2F3EA32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11B-C9C2-4930-B6A5-D35B9E68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7F0-7468-4822-95F2-567FFCD2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C77-6124-428A-8FE7-8A65DADC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504-1EED-41A2-A7ED-6C3C55F6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4D5-8F29-44D3-A4B2-03F620E1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6B9-99F7-4593-B7BF-924C209D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29A-DB74-4900-A401-867F31BD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60F-84F1-416E-96AB-D9863486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590-1A71-4F2B-9558-706FF255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E6E-0CF3-4824-B9EC-B3479DE5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E03D-4EDD-45B4-AA15-61BFA5B73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for evolutionary scienc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HM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until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ational Center for Biomedical Ontologies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after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atus: ne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s more community input!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QL Query suppo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QL func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no links to 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riginally intended for model organism mutant phenoty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aptable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sed on 2003 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s extensio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Diederich 199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mixed in with genetics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 production use at Fly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key tab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ntity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anatom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attribut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free text alternative to abov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tag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dev stag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_comparis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: </a:t>
            </a: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values (stat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heavy, l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red, magent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branched, cleft, coil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large, small, hypertrophi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long, sho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frequent, infrequ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bining entity terms and PATO ter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tity-attribute structured anno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Entity term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PATO te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tail fin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ventraliz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kidney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11143-431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ertrophi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5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midface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oplastic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5328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15200" y="525780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153280" y="5257800"/>
            <a:ext cx="868320" cy="824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6248520" y="365724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43600" y="4876920"/>
            <a:ext cx="1371600" cy="4572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tensions to simple EAV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w phenotype XML schema being developed for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measurements from attribut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osing entity ter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lue/state se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v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riation in space and ti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s the ‘A’ superfluou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ternative to absence/numb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and NCB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ional Center for Biomedical Ont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riving biological project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otype-phenotype-diseas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ol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annotation (EAV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 counterpart to 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ic metamodel (RDFS/OW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ado relational view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v module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s part of chado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eelllll, the meta-schema is still evolving…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ylogeny and phenotype untes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re input requir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lexity of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may need to evolve a lo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lot of software still to be writte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276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ha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an Letovsk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cott Ca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Lincoln Ste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in Wi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ichard Bruskiewitz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llen Da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ill Gelba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1981080"/>
            <a:ext cx="3276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orgios Gko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nte Wester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abian Neuh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John Day-Rich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chel Drysd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ichael Ashbur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key concep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selected module tou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genome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ontologies and termin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ylogen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evolutionary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character based descri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: attribute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76040" y="25750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l slides follow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</a:t>
            </a:r>
            <a:r>
              <a:rPr b="0" lang="en-US" sz="4400" spc="-1" strike="noStrike">
                <a:solidFill>
                  <a:srgbClr val="e3ebf1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lationships between pairs of featu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 constrained by S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rganism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ltra-simp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(only!) ent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organism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actually: tax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CBI taxon compat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unique(genus, spec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ch featur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 linked to an organ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rai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hat about evolution?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28520"/>
            <a:ext cx="723888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atus: mature, not yet in production u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riginal desig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ichard Bruskiewitz (IRRI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dapter from Aaron Mackey’s desig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concept: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have a single parent (except root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ranch 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 belongs to one 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be linked to other chado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have data attached (e.g. statistic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: SQL func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iews and SQL functions can greatly enhance queryabi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mplemented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height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depth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is_monophyletic(phylonode_id[ ], outgroup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make trees of anything (within reason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axonom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eatures of any type in S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featur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lypeptides (protei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r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inks to alignments,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Database schema for molecular bi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imarily model 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ional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BMS-independ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ostgreSQL, Sybase, Oracle, DB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as XML for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hadoXM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mes “for free”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rt of GMO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eroperates with Apollo, GBrowse, Turnkey, 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 use at various MODs and genome cent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: open ques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roversial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phylonode_relationship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DAGs!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uery efficiency vs redundanc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ttaching characters (phenotype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hing in place at pres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nking phylogeny to phen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ylonode already linked to fea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features have sequenc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link phylonode to 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ure of link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ssentia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at have we miss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environ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: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 basic EAV model sufficient f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organism mutant pheno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ystemat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sion requir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anaging multiple vers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tibility lay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ftware integr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lecular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 via Bio::Tree in bioper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racter-based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XUS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/hard??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t federat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concer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ix-n-matc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es ontologies and ‘cv’s for ty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Normalisa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ver efficienc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al (dbxref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omai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(genomics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mpanalys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press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ti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eno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ylogen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e3ebf1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bf1"/>
                </a:solidFill>
                <a:latin typeface="Gill Sans"/>
              </a:rPr>
              <a:t>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equenc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me key tabl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lo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pro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lays well with GFF3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types come from </a:t>
            </a:r>
            <a:r>
              <a:rPr b="0" lang="en-US" sz="3200" spc="-1" strike="noStrike">
                <a:solidFill>
                  <a:srgbClr val="ff6fcf"/>
                </a:solidFill>
                <a:latin typeface="Gill Sans"/>
              </a:rPr>
              <a:t>SO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(sequence ontolog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precise representation of some aspect of biologic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v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ies and controlled vocabularies (‘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’s) are ubiquitious in Chad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key tabl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term, or class in an ontolog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represent any ontology in OB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patible with RDF/RDF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tabl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as one parent; branch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pr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tensible tag-value pairs; eg statistic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so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fea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an make trees from any feature 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2:45:27Z</dcterms:created>
  <dc:creator>Chris Mungall</dc:creator>
  <dc:description/>
  <dc:language>en-US</dc:language>
  <cp:lastModifiedBy>Chris Mungall</cp:lastModifiedBy>
  <dcterms:modified xsi:type="dcterms:W3CDTF">2006-01-20T13:15:22Z</dcterms:modified>
  <cp:revision>119</cp:revision>
  <dc:subject/>
  <dc:title>The Evolution of Chado</dc:title>
</cp:coreProperties>
</file>